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EDD-4B4B-4D40-9044-3181A876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682-0D7E-4521-9721-F097DCE7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31A-90CA-4D50-B4C8-3D17C59F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3EC-0E60-473F-981B-E62DE2DA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DC6E-5337-4609-A057-A1A80CFA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1AF-691D-4AB6-A593-EB93E85E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CC4-802A-48F6-8F92-90B18D5A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76E2-3A34-4A7D-9471-E4B26F16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530-DCA0-4908-BA02-7CA85C15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D1D-1039-4ED0-A79C-BECEDBF9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FFA-B33A-4682-823F-9B12738D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7EC8-369D-441B-A128-AF0F6C7C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280" y="623700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FFD7-1460-4467-9C43-8A9F5BEBA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з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76200" y="-28440"/>
            <a:ext cx="837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Ф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П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ллектуальные систем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теллектуальный анализ дан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22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729480" y="6553080"/>
            <a:ext cx="24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6CE3-10DD-454E-BEC2-9D4B63192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рактикум</a:t>
            </a: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слительные методы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ознавания и прогноз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003560"/>
            <a:ext cx="6400800" cy="23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адка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ирова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ов обучения по прецеден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 матрицы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aMatri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зуализация матр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г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// создание матриц в разделяемой памяти</a:t>
            </a:r>
            <a:r>
              <a:rPr b="0" lang="en-US" sz="1600" spc="-1" strike="noStrike">
                <a:solidFill>
                  <a:srgbClr val="00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// с заданным именем и заданного объёма в байт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CmaIndex sz(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CmaMatrix Data   (MA_DOUBLE, sz[L][2]</a:t>
            </a:r>
            <a:r>
              <a:rPr b="0" lang="ru-RU" sz="1600" spc="-1" strike="noStrike">
                <a:solidFill>
                  <a:srgbClr val="cc0000"/>
                </a:solidFill>
                <a:latin typeface="Lucida Console"/>
              </a:rPr>
              <a:t>, L"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My</a:t>
            </a:r>
            <a:r>
              <a:rPr b="0" lang="ru-RU" sz="1600" spc="-1" strike="noStrike">
                <a:solidFill>
                  <a:srgbClr val="cc0000"/>
                </a:solidFill>
                <a:latin typeface="Lucida Console"/>
              </a:rPr>
              <a:t>Test.Data",   1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00000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CmaMatrix Weight (MA_DOUBLE, sz[L]</a:t>
            </a:r>
            <a:r>
              <a:rPr b="0" lang="ru-RU" sz="1600" spc="-1" strike="noStrike">
                <a:solidFill>
                  <a:srgbClr val="cc0000"/>
                </a:solidFill>
                <a:latin typeface="Lucida Console"/>
              </a:rPr>
              <a:t>,    L"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My</a:t>
            </a:r>
            <a:r>
              <a:rPr b="0" lang="ru-RU" sz="1600" spc="-1" strike="noStrike">
                <a:solidFill>
                  <a:srgbClr val="cc0000"/>
                </a:solidFill>
                <a:latin typeface="Lucida Console"/>
              </a:rPr>
              <a:t>Test.Weight", 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 50000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CmaMatrix Target (MA_DOUBLE, sz[L]</a:t>
            </a:r>
            <a:r>
              <a:rPr b="0" lang="ru-RU" sz="1600" spc="-1" strike="noStrike">
                <a:solidFill>
                  <a:srgbClr val="cc0000"/>
                </a:solidFill>
                <a:latin typeface="Lucida Console"/>
              </a:rPr>
              <a:t>,    L"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My</a:t>
            </a:r>
            <a:r>
              <a:rPr b="0" lang="ru-RU" sz="1600" spc="-1" strike="noStrike">
                <a:solidFill>
                  <a:srgbClr val="cc0000"/>
                </a:solidFill>
                <a:latin typeface="Lucida Console"/>
              </a:rPr>
              <a:t>Test.Target", 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 50000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г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ём текстовый файл 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MyMenu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иректории 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SharedMatrixVie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Folder:</a:t>
            </a:r>
            <a:r>
              <a:rPr b="1" lang="en-US" sz="1400" spc="-1" strike="noStrike">
                <a:solidFill>
                  <a:srgbClr val="cc0000"/>
                </a:solidFill>
                <a:latin typeface="Lucida Console"/>
              </a:rPr>
              <a:t>My</a:t>
            </a: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Matri</a:t>
            </a:r>
            <a:r>
              <a:rPr b="1" lang="en-US" sz="1400" spc="-1" strike="noStrike">
                <a:solidFill>
                  <a:srgbClr val="cc0000"/>
                </a:solidFill>
                <a:latin typeface="Lucida Console"/>
              </a:rPr>
              <a:t>x</a:t>
            </a: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 Матрицы тестового проекта </a:t>
            </a:r>
            <a:r>
              <a:rPr b="1" lang="en-US" sz="1400" spc="-1" strike="noStrike">
                <a:solidFill>
                  <a:srgbClr val="cc0000"/>
                </a:solidFill>
                <a:latin typeface="Lucida Console"/>
              </a:rPr>
              <a:t>My</a:t>
            </a: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	</a:t>
            </a: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SharedMatrix:</a:t>
            </a:r>
            <a:r>
              <a:rPr b="1" lang="en-US" sz="1400" spc="-1" strike="noStrike">
                <a:solidFill>
                  <a:srgbClr val="cc0000"/>
                </a:solidFill>
                <a:latin typeface="Lucida Console"/>
              </a:rPr>
              <a:t>My</a:t>
            </a: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Test.Data  Матрица объекты-признаки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	</a:t>
            </a: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SharedMatrix:</a:t>
            </a:r>
            <a:r>
              <a:rPr b="1" lang="en-US" sz="1400" spc="-1" strike="noStrike">
                <a:solidFill>
                  <a:srgbClr val="cc0000"/>
                </a:solidFill>
                <a:latin typeface="Lucida Console"/>
              </a:rPr>
              <a:t>My</a:t>
            </a: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Test.Weight Вектор весов 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	</a:t>
            </a: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SharedMatrix:</a:t>
            </a:r>
            <a:r>
              <a:rPr b="1" lang="en-US" sz="1400" spc="-1" strike="noStrike">
                <a:solidFill>
                  <a:srgbClr val="cc0000"/>
                </a:solidFill>
                <a:latin typeface="Lucida Console"/>
              </a:rPr>
              <a:t>My</a:t>
            </a: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Test.Target Целевой вектор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г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ускаем нашу программу (предположим, 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MyTest.ex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ускаем 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SharedMatrixView.exe MyMenu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 матрицы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aMatri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зуализация матр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33600" y="1844640"/>
            <a:ext cx="60768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нерация модельных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инициализация данных - случайная двумерная выборка из двух класс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for (</a:t>
            </a: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int 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i=0; i&lt;L; i++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double p1 = rand() / double(RAND_MAX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double p2 = rand() / double(RAND_MAX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номер класса (априорные вероятности классов = 0.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int y = rand() % 2;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генерация точки класса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switch (y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case 0: 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класс 0 – широкий, с центром в (0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,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Data[i][0] = -log (1/p1-1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Data[i][1] = -log (1/p2-1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break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case 1: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класс 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1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 – узкий, с центром в (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1,1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Data[i][0] = 1 + 0.2 * -log (1/p1-1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Data[i][1] = 1 + 0.2 * -log (1/p2-1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break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вес и класс i-й точ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Weight[i] = 1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Target[i] = y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афическая визуализация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формировать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D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FILE* chd = fopen ("KernelSmooth.chd","w");    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// создать </a:t>
            </a:r>
            <a:r>
              <a:rPr b="1" lang="en-US" sz="1000" spc="-1" strike="noStrike">
                <a:solidFill>
                  <a:srgbClr val="00cc00"/>
                </a:solidFill>
                <a:latin typeface="Lucida Console"/>
              </a:rPr>
              <a:t>CHD-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фай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// сформировать разноцветное поле в узлах прямоугольной сет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fprintf (chd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"#Include sty.black-white.chd\n"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"#Slide.Style stySlide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"#Panel.Style styPanel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"#NewData x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x2 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y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1 y2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 z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"#Series X=x1 Y=y1 BX=x2 BY=y2 C=1 G=2 I=z U=40\n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// пробежать по прямоугольной сетке, классифицировать каждый узел алгоритмом </a:t>
            </a:r>
            <a:r>
              <a:rPr b="1" lang="en-US" sz="1000" spc="-1" strike="noStrike">
                <a:solidFill>
                  <a:srgbClr val="00cc00"/>
                </a:solidFill>
                <a:latin typeface="Lucida Console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CmaMatrix X (MA_DOUBLE, sz[1][2]);    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// матрица объектов-признак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CmaMatrix Y (MA_DOUBLE, sz[1]);    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// матрица отве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dx = dy = 0.05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for (double x=-2; x&lt;=4; x+=dx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for (double y=-2; y&lt;=4; y+=dy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X[0][0] = x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X[0][1] = y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A.Test (X,Y);   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// классифицировать точку </a:t>
            </a:r>
            <a:r>
              <a:rPr b="1" lang="en-US" sz="1000" spc="-1" strike="noStrike">
                <a:solidFill>
                  <a:srgbClr val="00cc00"/>
                </a:solidFill>
                <a:latin typeface="Lucida Console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// нарисовать узел как прямоугольник с центром </a:t>
            </a:r>
            <a:r>
              <a:rPr b="1" lang="en-US" sz="1000" spc="-1" strike="noStrike">
                <a:solidFill>
                  <a:srgbClr val="00cc00"/>
                </a:solidFill>
                <a:latin typeface="Lucida Console"/>
              </a:rPr>
              <a:t>(x,y)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,</a:t>
            </a:r>
            <a:r>
              <a:rPr b="1" lang="en-US" sz="1000" spc="-1" strike="noStrike">
                <a:solidFill>
                  <a:srgbClr val="00cc00"/>
                </a:solidFill>
                <a:latin typeface="Lucida Console"/>
              </a:rPr>
              <a:t> 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цветом интенсивности </a:t>
            </a:r>
            <a:r>
              <a:rPr b="1" lang="en-US" sz="1000" spc="-1" strike="noStrike">
                <a:solidFill>
                  <a:srgbClr val="00cc00"/>
                </a:solidFill>
                <a:latin typeface="Lucida Console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fprintf (chd, "%g\t%g\t%g\n", x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-dx/2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x+dx/2, 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y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-dy/2, y+dy/2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, double(Y[0]));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// сформировать график точек обучающей выбор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fprintf (chd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"#NewData xtr ytr class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"#Series X=xtr Y=ytr C=class\n"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for (i=0; i&lt;L; i++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fprintf (chd, "%g\t%g\t%d\n", double (Data[i][0]),  double(Data[i][1]), int(Target[i])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+1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fclose (chd);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// график готов – закрыть </a:t>
            </a:r>
            <a:r>
              <a:rPr b="1" lang="en-US" sz="1000" spc="-1" strike="noStrike">
                <a:solidFill>
                  <a:srgbClr val="00cc00"/>
                </a:solidFill>
                <a:latin typeface="Lucida Console"/>
              </a:rPr>
              <a:t>CHD-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фай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афическая визуализация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в результате получ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00360" y="1690560"/>
            <a:ext cx="552420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кумент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ументирование исходного кода (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h, *.c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ение каждого класса, структуры, объявления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ение каждого поля класса, 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ение каждой функции, каждого аргумента функции, перечень возвращаемых значений и исключительных ситу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 функций: назначение каждого смыслового 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ументирование алгоритм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*.html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.do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ение алгоритма, границы примен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каждой матрицы-аргумента в каждом методе алгоритм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ности, назначение, входной/выхо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каждого параметра: тип, назначение, возможные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ные тесты: как их запускать, что должно быть на вых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ое описание алгорит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ы примен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сылки на литератур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находится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прилагаемом архив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Smo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приложения, фрагменты которого использовались в этой презентации (метод сглаживания), с исходными к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haredMatrixView (утилита для просмотра матри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om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блиотека компонентов матричных алгоритм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намическая библиоте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om.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для её регист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h, *.cpp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ы, необходимые для обращения к библио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ум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tLi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библиотека деловой и научной граф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яемые моду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ум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Problem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бор 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ельных задач класс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 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це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горитмы обучения по прецедентам как матричные преобразова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бходимость объектно-ориентированного програм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ная структура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зовый класс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риц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aMar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ладка: утили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dMatrixVie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ирование и экспери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нерация моде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ьные д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фическая визуализация: библиоте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t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ный к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исание алгорит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ы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обуч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in: Data[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×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], Weight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], Target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ина обучающей выбор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ло призна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трица данных (объекты-призна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ight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ктор весов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get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елевой ве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: Data[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×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] → Target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ина контрольной выбор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ализация алгоритмов: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ОП-под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ное использование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ить реализацию от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ить тестирование от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ить пользователя от разрабо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ить вычисления от передачи да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ить вычисления от визу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вместная разраб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говориться 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дульности и интерфей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делать свой код понятным для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ключить дублирование к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ализация алгоритмов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дульная структура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960640"/>
            <a:ext cx="863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1844640"/>
            <a:ext cx="2521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2960640"/>
            <a:ext cx="863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B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2960640"/>
            <a:ext cx="971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ar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4076640"/>
            <a:ext cx="1008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L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4076640"/>
            <a:ext cx="1008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RB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66920" y="4076640"/>
            <a:ext cx="126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Par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9280" y="4940280"/>
            <a:ext cx="3240000" cy="14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CrossValidator (?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ClassifyerLibrary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IllustrationMaker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294920" y="2274840"/>
            <a:ext cx="97308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2274840"/>
            <a:ext cx="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2274840"/>
            <a:ext cx="89856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50920" y="3392640"/>
            <a:ext cx="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3392640"/>
            <a:ext cx="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84720" y="3392640"/>
            <a:ext cx="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3392640"/>
            <a:ext cx="611280" cy="1547640"/>
          </a:xfrm>
          <a:custGeom>
            <a:avLst/>
            <a:gdLst/>
            <a:ahLst/>
            <a:rect l="l" t="t" r="r" b="b"/>
            <a:pathLst>
              <a:path w="415" h="975">
                <a:moveTo>
                  <a:pt x="415" y="0"/>
                </a:moveTo>
                <a:cubicBezTo>
                  <a:pt x="237" y="134"/>
                  <a:pt x="60" y="268"/>
                  <a:pt x="30" y="430"/>
                </a:cubicBezTo>
                <a:cubicBezTo>
                  <a:pt x="0" y="592"/>
                  <a:pt x="200" y="884"/>
                  <a:pt x="234" y="9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50920" y="3392640"/>
            <a:ext cx="647640" cy="15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771280" y="3392640"/>
            <a:ext cx="613080" cy="15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92720" y="173520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зовый клас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бстрактный обучаемый алгори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92720" y="28512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ы-наследн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лизующие конкретные алгорит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24360" y="396864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стовые моду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для проверки алгоритмов на модельных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4797360"/>
            <a:ext cx="435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лож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возможно, пока не существующие) дл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авнительного анализа алгоритм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ения прикладных задач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готовки иллюстраций и отчётов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зовый класс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Предок всех методов обучения, абстрактный базовый клас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class CLearner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CLearner () {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virtual ~CLearner() {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Метод настройки алгорит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virtual int Tra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CmaMatrix &amp;Features,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 // </a:t>
            </a:r>
            <a:r>
              <a:rPr b="0" i="1" lang="en-US" sz="1500" spc="-1" strike="noStrike">
                <a:solidFill>
                  <a:srgbClr val="00cc00"/>
                </a:solidFill>
                <a:latin typeface="Lucida Console"/>
              </a:rPr>
              <a:t>L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  <a:ea typeface="Arial"/>
              </a:rPr>
              <a:t>×</a:t>
            </a:r>
            <a:r>
              <a:rPr b="0" i="1" lang="en-US" sz="1500" spc="-1" strike="noStrike">
                <a:solidFill>
                  <a:srgbClr val="00cc00"/>
                </a:solidFill>
                <a:latin typeface="Lucida Console"/>
                <a:ea typeface="Arial"/>
              </a:rPr>
              <a:t>n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 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-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матрица Объекты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 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*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 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Призна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CmaMatrix &amp;Weight,  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 // </a:t>
            </a:r>
            <a:r>
              <a:rPr b="0" i="1" lang="en-US" sz="1500" spc="-1" strike="noStrike">
                <a:solidFill>
                  <a:srgbClr val="00cc00"/>
                </a:solidFill>
                <a:latin typeface="Lucida Console"/>
              </a:rPr>
              <a:t>L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  <a:ea typeface="Arial"/>
              </a:rPr>
              <a:t>×1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 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-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матрица Объекты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 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*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 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{ВесаОбъектов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CmaMatrix &amp;Target  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  // </a:t>
            </a:r>
            <a:r>
              <a:rPr b="0" i="1" lang="en-US" sz="1500" spc="-1" strike="noStrike">
                <a:solidFill>
                  <a:srgbClr val="00cc00"/>
                </a:solidFill>
                <a:latin typeface="Lucida Console"/>
              </a:rPr>
              <a:t>L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  <a:ea typeface="Arial"/>
              </a:rPr>
              <a:t>×1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 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-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матрица Объекты * {ЦелевойПризнак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) = 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Метод применения алгорит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virtual int Test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CmaMatrix &amp;Features, 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</a:t>
            </a:r>
            <a:r>
              <a:rPr b="0" i="1" lang="en-US" sz="1500" spc="-1" strike="noStrike">
                <a:solidFill>
                  <a:srgbClr val="00cc00"/>
                </a:solidFill>
                <a:latin typeface="Lucida Console"/>
              </a:rPr>
              <a:t>k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  <a:ea typeface="Arial"/>
              </a:rPr>
              <a:t>×</a:t>
            </a:r>
            <a:r>
              <a:rPr b="0" i="1" lang="en-US" sz="1500" spc="-1" strike="noStrike">
                <a:solidFill>
                  <a:srgbClr val="00cc00"/>
                </a:solidFill>
                <a:latin typeface="Lucida Console"/>
                <a:ea typeface="Arial"/>
              </a:rPr>
              <a:t>n 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-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матрица Объекты * Призна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CmaMatrix &amp;Result  </a:t>
            </a: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</a:t>
            </a:r>
            <a:r>
              <a:rPr b="0" i="1" lang="en-US" sz="1500" spc="-1" strike="noStrike">
                <a:solidFill>
                  <a:srgbClr val="00cc00"/>
                </a:solidFill>
                <a:latin typeface="Lucida Console"/>
              </a:rPr>
              <a:t>k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  <a:ea typeface="Arial"/>
              </a:rPr>
              <a:t>×1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 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-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матрица Объекты * {ЦелевойПризнак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) = 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В следующих версиях здесь появятся и не-виртуальные функ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 матрицы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aMatri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здание и заполнение матр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#include "Learner.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const int L = 100;</a:t>
            </a: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   // длина обучающей выбо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// создание матриц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CmaIndex sz(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CmaMatrix Data   (MA_DOUBLE, sz[L][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CmaMatrix Weight (MA_DOUBLE, sz[L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CmaMatrix Target (MA_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BYTE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,   sz[L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// формирование двумерных моде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for (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int 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i=0; i&lt;L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// формирование </a:t>
            </a:r>
            <a:r>
              <a:rPr b="0" lang="en-US" sz="1600" spc="-1" strike="noStrike">
                <a:solidFill>
                  <a:srgbClr val="00cc00"/>
                </a:solidFill>
                <a:latin typeface="Lucida Console"/>
              </a:rPr>
              <a:t>i-</a:t>
            </a: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й строки матрицы объектов-призн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Data[i][0] = -log (double(RAND_MAX)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rand() 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Data[i][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] = -log (double(RAND_MAX)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rand() 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// вес и класс i-й 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Weight[i] = 1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0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Target[i] = (Data[i][0]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gt;0.0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? 1 : 0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 матрицы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aMatri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ование матр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// создание и обучение алгоритма – наследника класса </a:t>
            </a:r>
            <a:r>
              <a:rPr b="0" lang="en-US" sz="1400" spc="-1" strike="noStrike">
                <a:solidFill>
                  <a:srgbClr val="00cc00"/>
                </a:solidFill>
                <a:latin typeface="Lucida Console"/>
              </a:rPr>
              <a:t>CLear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CKernelSmoothing 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// передача сформированных матриц алгорит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A.Train (Data, Weight, Target);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cc00"/>
                </a:solidFill>
                <a:latin typeface="Lucida Console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cc00"/>
                </a:solidFill>
                <a:latin typeface="Lucida Console"/>
              </a:rPr>
              <a:t>// А что с ними будет делать метод </a:t>
            </a:r>
            <a:r>
              <a:rPr b="1" lang="en-US" sz="1400" spc="-1" strike="noStrike">
                <a:solidFill>
                  <a:srgbClr val="00cc00"/>
                </a:solidFill>
                <a:latin typeface="Lucida Console"/>
              </a:rPr>
              <a:t>Train</a:t>
            </a:r>
            <a:r>
              <a:rPr b="1" lang="ru-RU" sz="1400" spc="-1" strike="noStrike">
                <a:solidFill>
                  <a:srgbClr val="00cc00"/>
                </a:solidFill>
                <a:latin typeface="Lucida Console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// сперва узнает размеры матр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int L =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Data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.Size(0);</a:t>
            </a: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  // длина обучающей выбор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int n =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Data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.Size(1);</a:t>
            </a: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  // число призна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// далее работает с ними, как </a:t>
            </a:r>
            <a:r>
              <a:rPr b="0" lang="en-US" sz="1400" spc="-1" strike="noStrike">
                <a:solidFill>
                  <a:srgbClr val="00cc00"/>
                </a:solidFill>
                <a:latin typeface="Lucida Console"/>
              </a:rPr>
              <a:t>c </a:t>
            </a: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обычными массивами </a:t>
            </a:r>
            <a:r>
              <a:rPr b="0" lang="en-US" sz="1400" spc="-1" strike="noStrike">
                <a:solidFill>
                  <a:srgbClr val="00cc00"/>
                </a:solidFill>
                <a:latin typeface="Lucida Console"/>
              </a:rPr>
              <a:t>double[] </a:t>
            </a: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или </a:t>
            </a:r>
            <a:r>
              <a:rPr b="0" lang="en-US" sz="1400" spc="-1" strike="noStrike">
                <a:solidFill>
                  <a:srgbClr val="00cc00"/>
                </a:solidFill>
                <a:latin typeface="Lucida Console"/>
              </a:rPr>
              <a:t>double[][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double RR =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for (int j=0; j&lt;n; j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RR +=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fabs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Data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1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][j] -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Data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[i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][j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// но кое-чего делать нельз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Result[i] = Result[i] + sumW;</a:t>
            </a:r>
            <a:r>
              <a:rPr b="0" lang="en-US" sz="1400" spc="-1" strike="noStrike">
                <a:solidFill>
                  <a:srgbClr val="00cc00"/>
                </a:solidFill>
                <a:latin typeface="Lucida Console"/>
              </a:rPr>
              <a:t>   </a:t>
            </a: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  // нельзя: </a:t>
            </a:r>
            <a:r>
              <a:rPr b="1" lang="en-US" sz="1400" spc="-1" strike="noStrike">
                <a:solidFill>
                  <a:srgbClr val="ff3300"/>
                </a:solidFill>
                <a:latin typeface="Lucida Console"/>
              </a:rPr>
              <a:t>Result[i] += sum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Result[i] = </a:t>
            </a:r>
            <a:r>
              <a:rPr b="0" lang="en-US" sz="1400" spc="-1" strike="noStrike">
                <a:solidFill>
                  <a:srgbClr val="0066ff"/>
                </a:solidFill>
                <a:latin typeface="Lucida Console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(Target[i1]);  </a:t>
            </a: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// нельзя:</a:t>
            </a:r>
            <a:r>
              <a:rPr b="1" lang="ru-RU" sz="1400" spc="-1" strike="noStrike">
                <a:solidFill>
                  <a:srgbClr val="ff33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Lucida Console"/>
              </a:rPr>
              <a:t>Result[i] = Target[i1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// иногда требуется явное преобразование ти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fprintf (chd, "%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\t%d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\n", </a:t>
            </a:r>
            <a:r>
              <a:rPr b="0" lang="ru-RU" sz="1400" spc="-1" strike="noStrike">
                <a:solidFill>
                  <a:srgbClr val="0066ff"/>
                </a:solidFill>
                <a:latin typeface="Lucida Console"/>
              </a:rPr>
              <a:t>double</a:t>
            </a:r>
            <a:r>
              <a:rPr b="0" lang="en-US" sz="1400" spc="-1" strike="noStrike">
                <a:solidFill>
                  <a:srgbClr val="0066ff"/>
                </a:solidFill>
                <a:latin typeface="Lucida Conso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(Data[i][0]), </a:t>
            </a:r>
            <a:r>
              <a:rPr b="0" lang="en-US" sz="1400" spc="-1" strike="noStrike">
                <a:solidFill>
                  <a:srgbClr val="0066ff"/>
                </a:solidFill>
                <a:latin typeface="Lucida Console"/>
              </a:rPr>
              <a:t>in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Target[i]) 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 матрицы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aMatri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судим преиму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1280" y="1628640"/>
            <a:ext cx="8533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maMatrix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же реализов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нужды изобретать велосипед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лассом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maMatrix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льзоваться легк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maMatri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взят из промышленной библиотеки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ecsys maCom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и имеет богатую функциональнос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цы можно просматривать прямо во время отлад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цы можно  сохранять в файлы и загружать из фай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ни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aMatrix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матрицы, блочные, разреж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ивается обработка пустых (пропущенных) зна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ногое друго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0:39:45Z</dcterms:created>
  <dc:creator>Voron</dc:creator>
  <dc:description/>
  <dc:language>en-US</dc:language>
  <cp:lastModifiedBy>Воронцов</cp:lastModifiedBy>
  <dcterms:modified xsi:type="dcterms:W3CDTF">2007-05-03T07:08:25Z</dcterms:modified>
  <cp:revision>20</cp:revision>
  <dc:subject/>
  <dc:title>Практикум Вычислительные методы  распознавания и прогнозирования</dc:title>
</cp:coreProperties>
</file>